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8.gif" ContentType="image/gif"/>
  <Override PartName="/ppt/media/image12.gif" ContentType="image/gif"/>
  <Override PartName="/ppt/media/image15.png" ContentType="image/png"/>
  <Override PartName="/ppt/media/image7.gif" ContentType="image/gif"/>
  <Override PartName="/ppt/media/image5.jpeg" ContentType="image/jpeg"/>
  <Override PartName="/ppt/media/image18.wmf" ContentType="image/x-wmf"/>
  <Override PartName="/ppt/media/chimes.wav" ContentType="audio/x-wav"/>
  <Override PartName="/ppt/media/image13.gif" ContentType="image/gif"/>
  <Override PartName="/ppt/media/image22.wmf" ContentType="image/x-wmf"/>
  <Override PartName="/ppt/media/image2.gif" ContentType="image/gif"/>
  <Override PartName="/ppt/media/image11.png" ContentType="image/png"/>
  <Override PartName="/ppt/media/image21.gif" ContentType="image/gif"/>
  <Override PartName="/ppt/media/image20.png" ContentType="image/png"/>
  <Override PartName="/ppt/media/image19.png" ContentType="image/png"/>
  <Override PartName="/ppt/media/image16.wmf" ContentType="image/x-wmf"/>
  <Override PartName="/ppt/media/image14.png" ContentType="image/png"/>
  <Override PartName="/ppt/media/image1.gif" ContentType="image/gif"/>
  <Override PartName="/ppt/media/image4.wmf" ContentType="image/x-wmf"/>
  <Override PartName="/ppt/media/image10.png" ContentType="image/png"/>
  <Override PartName="/ppt/media/image6.png" ContentType="image/png"/>
  <Override PartName="/ppt/media/image3.gif" ContentType="image/gi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3F35-D012-4F59-A024-3B261FC0A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22C3-5291-4647-A4E7-EEFC3FB8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52F2-7336-4262-96D0-D911123E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2AB18-BFE9-4F11-AB3E-BFC4F181A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5FE1-C29B-4C63-BA10-9B875E96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D9A5-B495-4084-94C0-C40DA4493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96C9-50B4-431D-978C-436043FEA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4493-3B61-4BE0-B1AB-86C69D311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871D-BA12-4DD9-8DF5-E46CA846C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BEAF2-DF62-4271-A117-5284E7CF6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257-9478-427E-9957-42158028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FC8-44E8-477F-BE2D-8241B9569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7603B-2D59-48F2-AB36-714C9007A1A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image" Target="../media/image8.gif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8.wmf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8153280" y="0"/>
            <a:ext cx="1143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905120" y="839880"/>
            <a:ext cx="49528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2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66"/>
                </a:solidFill>
                <a:latin typeface="楷体_GB2312"/>
              </a:rPr>
              <a:t>第二十三章  旋转</a:t>
            </a:r>
            <a:endParaRPr b="1" lang="en-US" sz="4400" spc="-1" strike="noStrike">
              <a:ln w="9360">
                <a:solidFill>
                  <a:srgbClr val="000000"/>
                </a:solidFill>
                <a:miter/>
              </a:ln>
              <a:solidFill>
                <a:srgbClr val="ff0066"/>
              </a:solidFill>
              <a:latin typeface="楷体_GB2312"/>
              <a:ea typeface="楷体_GB2312"/>
            </a:endParaRPr>
          </a:p>
        </p:txBody>
      </p:sp>
      <p:sp>
        <p:nvSpPr>
          <p:cNvPr id="43" name=""/>
          <p:cNvSpPr/>
          <p:nvPr/>
        </p:nvSpPr>
        <p:spPr>
          <a:xfrm>
            <a:off x="3346920" y="2819520"/>
            <a:ext cx="302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23.1</a:t>
            </a:r>
            <a:r>
              <a:rPr b="0" lang="zh-CN" sz="2800" spc="-1" strike="noStrike">
                <a:solidFill>
                  <a:srgbClr val="009999"/>
                </a:solidFill>
                <a:latin typeface="Arial"/>
              </a:rPr>
              <a:t>　图形的旋转（三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86200" y="4495680"/>
            <a:ext cx="12384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457200" y="1295280"/>
            <a:ext cx="1258920" cy="11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animMotion origin="layout" path="M 0.054306 -0.008241 L -1.012431 -0.008241 E">
                                      <p:cBhvr>
                                        <p:cTn id="6" dur="3000" fill="hold"/>
                                        <p:tgtEl>
                                          <p:spTgt spid="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-80280" y="-194040"/>
            <a:ext cx="2747160" cy="2103840"/>
            <a:chOff x="-80280" y="-194040"/>
            <a:chExt cx="2747160" cy="2103840"/>
          </a:xfrm>
        </p:grpSpPr>
        <p:sp>
          <p:nvSpPr>
            <p:cNvPr id="122" name=""/>
            <p:cNvSpPr/>
            <p:nvPr/>
          </p:nvSpPr>
          <p:spPr>
            <a:xfrm rot="413400">
              <a:off x="19080" y="-47520"/>
              <a:ext cx="2548080" cy="18111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20757000">
              <a:off x="255600" y="56196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3608280" y="837360"/>
            <a:ext cx="40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二、跟踪练习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411480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26" name=""/>
          <p:cNvGrpSpPr/>
          <p:nvPr/>
        </p:nvGrpSpPr>
        <p:grpSpPr>
          <a:xfrm>
            <a:off x="533520" y="1676520"/>
            <a:ext cx="7391160" cy="2971800"/>
            <a:chOff x="533520" y="1676520"/>
            <a:chExt cx="7391160" cy="2971800"/>
          </a:xfrm>
        </p:grpSpPr>
        <p:sp>
          <p:nvSpPr>
            <p:cNvPr id="127" name=""/>
            <p:cNvSpPr/>
            <p:nvPr/>
          </p:nvSpPr>
          <p:spPr>
            <a:xfrm>
              <a:off x="533520" y="1676520"/>
              <a:ext cx="73911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　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　如图所示，点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线段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上任意一点，分别以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为边在同侧作等边三角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和等边三角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CE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连接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E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、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D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试找出图中能通过旋转完全重合的一对三角形，并指明旋转中心、旋转角及旋转方向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" descr=""/>
            <p:cNvPicPr/>
            <p:nvPr/>
          </p:nvPicPr>
          <p:blipFill>
            <a:blip r:embed="rId1"/>
            <a:stretch/>
          </p:blipFill>
          <p:spPr>
            <a:xfrm>
              <a:off x="4865760" y="3259080"/>
              <a:ext cx="2144520" cy="1389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"/>
          <p:cNvSpPr/>
          <p:nvPr/>
        </p:nvSpPr>
        <p:spPr>
          <a:xfrm>
            <a:off x="457200" y="3581280"/>
            <a:ext cx="434340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解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后能与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完全重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中心是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旋转角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旋转方向是顺时针方向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(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也可看作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DC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绕点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逆时针旋转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60°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得到△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8" dur="2000" fill="hold"/>
                                        <p:tgtEl>
                                          <p:spTgt spid="12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2743200" y="838080"/>
            <a:ext cx="3456000" cy="10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75000"/>
                    </a:srgbClr>
                  </a:outerShdw>
                </a:effectLst>
                <a:latin typeface="宋体"/>
              </a:rPr>
              <a:t>课堂小结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75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31" name=""/>
          <p:cNvSpPr/>
          <p:nvPr/>
        </p:nvSpPr>
        <p:spPr>
          <a:xfrm>
            <a:off x="1447920" y="2057400"/>
            <a:ext cx="6375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选择不同的旋转中心、不同的旋转角，设计出美丽的图案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．作出几个复合图形组成的图案旋转后的图案，要先求出图中的关键点──线的端点、角的顶点、圆的圆心等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6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9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170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2943000" y="26668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学习至此，请使用本课时自主学习部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685800" y="380880"/>
            <a:ext cx="3289320" cy="1067040"/>
            <a:chOff x="685800" y="380880"/>
            <a:chExt cx="3289320" cy="1067040"/>
          </a:xfrm>
        </p:grpSpPr>
        <p:pic>
          <p:nvPicPr>
            <p:cNvPr id="134" name="" descr=""/>
            <p:cNvPicPr/>
            <p:nvPr/>
          </p:nvPicPr>
          <p:blipFill>
            <a:blip r:embed="rId1"/>
            <a:stretch/>
          </p:blipFill>
          <p:spPr>
            <a:xfrm>
              <a:off x="685800" y="380880"/>
              <a:ext cx="106668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PC"/>
            <p:cNvSpPr/>
            <p:nvPr/>
          </p:nvSpPr>
          <p:spPr>
            <a:xfrm>
              <a:off x="1752480" y="457200"/>
              <a:ext cx="2222640" cy="900000"/>
            </a:xfrm>
            <a:prstGeom prst="pie">
              <a:avLst/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练一练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486400" y="457200"/>
            <a:ext cx="2682720" cy="138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77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3" dur="770" fill="hold"/>
                                        <p:tgtEl>
                                          <p:spTgt spid="13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5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7" dur="77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6400800" cy="1708200"/>
            <a:chOff x="0" y="0"/>
            <a:chExt cx="6400800" cy="1708200"/>
          </a:xfrm>
        </p:grpSpPr>
        <p:pic>
          <p:nvPicPr>
            <p:cNvPr id="4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213372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 txBox="1"/>
            <p:nvPr/>
          </p:nvSpPr>
          <p:spPr>
            <a:xfrm>
              <a:off x="3048120" y="457200"/>
              <a:ext cx="335268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1" strike="noStrike">
                  <a:ln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隶书"/>
                </a:rPr>
                <a:t>学习目标</a:t>
              </a:r>
              <a:endParaRPr b="1" lang="en-US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隶书"/>
                <a:ea typeface="隶书"/>
              </a:endParaRPr>
            </a:p>
          </p:txBody>
        </p:sp>
      </p:grpSp>
      <p:sp>
        <p:nvSpPr>
          <p:cNvPr id="49" name=""/>
          <p:cNvSpPr/>
          <p:nvPr/>
        </p:nvSpPr>
        <p:spPr>
          <a:xfrm>
            <a:off x="1120680" y="2135160"/>
            <a:ext cx="690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1.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理解选择不同的旋转中心、不同的旋转角度，会出现不同的效果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2.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掌握根据需要用旋转的知识设计出美丽的图案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4090680" y="381960"/>
            <a:ext cx="152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自学指导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38080" y="1295280"/>
            <a:ext cx="731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对应点到旋转中心的距离有何关系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各对应点与旋转中心所连线段的夹角与旋转角有何关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两个图形是旋转前后的图形，它们全等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70480" y="9907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思考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066680" y="2895480"/>
            <a:ext cx="7696440" cy="978120"/>
            <a:chOff x="1066680" y="2895480"/>
            <a:chExt cx="7696440" cy="97812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7169040" y="2895480"/>
              <a:ext cx="1594080" cy="838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1066680" y="3048120"/>
              <a:ext cx="6172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学生独立完成作图题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，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绕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旋转后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O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是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点的对应点，作出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旋转后的三角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77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770" fill="hold"/>
                                        <p:tgtEl>
                                          <p:spTgt spid="5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9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" dur="77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533520" y="13716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探究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从上面的作图题中，知道作图应满足三要素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中心、旋转角、对应点，而旋转中心、旋转角固定下来，对应点就自然而然地固定下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因此，下面就选择不同的旋转中心、不同的旋转角来进行研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把一个图案以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点为中心进行旋转，选择不同的旋转中心，不同的旋转角，会出现不同的效果图形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762120" y="76320"/>
            <a:ext cx="2409840" cy="1558800"/>
            <a:chOff x="762120" y="76320"/>
            <a:chExt cx="2409840" cy="1558800"/>
          </a:xfrm>
        </p:grpSpPr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762120" y="144360"/>
              <a:ext cx="647640" cy="762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1512720" y="787320"/>
              <a:ext cx="1490760" cy="84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357200" y="76320"/>
              <a:ext cx="1814760" cy="812520"/>
            </a:xfrm>
            <a:prstGeom prst="cloudCallout">
              <a:avLst>
                <a:gd name="adj1" fmla="val -67143"/>
                <a:gd name="adj2" fmla="val 68402"/>
              </a:avLst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1954440" y="3886200"/>
            <a:ext cx="292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中心不变，改变旋转角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133720" y="4495680"/>
            <a:ext cx="2966760" cy="8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609480" y="230040"/>
            <a:ext cx="2438640" cy="1676520"/>
            <a:chOff x="609480" y="230040"/>
            <a:chExt cx="2438640" cy="167652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609480" y="303120"/>
              <a:ext cx="655920" cy="81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" descr=""/>
            <p:cNvPicPr/>
            <p:nvPr/>
          </p:nvPicPr>
          <p:blipFill>
            <a:blip r:embed="rId2"/>
            <a:stretch/>
          </p:blipFill>
          <p:spPr>
            <a:xfrm>
              <a:off x="1370160" y="995400"/>
              <a:ext cx="1508040" cy="91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1212840" y="230040"/>
              <a:ext cx="1835280" cy="874800"/>
            </a:xfrm>
            <a:prstGeom prst="cloudCallout">
              <a:avLst>
                <a:gd name="adj1" fmla="val -67143"/>
                <a:gd name="adj2" fmla="val 68402"/>
              </a:avLst>
            </a:prstGeom>
            <a:solidFill>
              <a:srgbClr val="cc99ff"/>
            </a:solidFill>
            <a:ln w="9360">
              <a:solidFill>
                <a:srgbClr val="00cc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ff00"/>
                  </a:solidFill>
                  <a:latin typeface="Times New Roman"/>
                  <a:ea typeface="华文新魏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2895480" y="129528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角不变，改变旋转中心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200400" y="1828800"/>
            <a:ext cx="3446640" cy="155268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606040" y="3581280"/>
            <a:ext cx="319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我们可以设计成如下图美丽的图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4"/>
          <a:stretch/>
        </p:blipFill>
        <p:spPr>
          <a:xfrm>
            <a:off x="2990880" y="4191120"/>
            <a:ext cx="22492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612720" y="117360"/>
            <a:ext cx="6168600" cy="873000"/>
            <a:chOff x="612720" y="117360"/>
            <a:chExt cx="6168600" cy="873000"/>
          </a:xfrm>
        </p:grpSpPr>
        <p:sp>
          <p:nvSpPr>
            <p:cNvPr id="75" name=""/>
            <p:cNvSpPr txBox="1"/>
            <p:nvPr/>
          </p:nvSpPr>
          <p:spPr>
            <a:xfrm>
              <a:off x="612720" y="306000"/>
              <a:ext cx="1905120" cy="68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oubleWave1">
                <a:avLst>
                  <a:gd name="adj1" fmla="val 6481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1" strike="noStrike">
                  <a:ln w="12600">
                    <a:solidFill>
                      <a:srgbClr val="ff00ff"/>
                    </a:solidFill>
                    <a:miter/>
                  </a:ln>
                  <a:solidFill>
                    <a:srgbClr val="ffff00"/>
                  </a:solidFill>
                  <a:effectLst>
                    <a:outerShdw dist="107932" dir="18900000" blurRad="0" rotWithShape="0">
                      <a:srgbClr val="000099"/>
                    </a:outerShdw>
                  </a:effectLst>
                  <a:latin typeface="宋体"/>
                </a:rPr>
                <a:t>知识归纳</a:t>
              </a:r>
              <a:endParaRPr b="0" lang="en-US" sz="18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ff00"/>
                </a:solidFill>
                <a:effectLst>
                  <a:outerShdw dist="107932" dir="18900000" blurRad="0" rotWithShape="0">
                    <a:srgbClr val="000099"/>
                  </a:outerShdw>
                </a:effectLst>
                <a:latin typeface="宋体"/>
                <a:ea typeface="宋体"/>
              </a:endParaRPr>
            </a:p>
          </p:txBody>
        </p:sp>
        <p:pic>
          <p:nvPicPr>
            <p:cNvPr id="76" name="" descr=""/>
            <p:cNvPicPr/>
            <p:nvPr/>
          </p:nvPicPr>
          <p:blipFill>
            <a:blip r:embed="rId1"/>
            <a:stretch/>
          </p:blipFill>
          <p:spPr>
            <a:xfrm rot="10800000">
              <a:off x="2863440" y="117000"/>
              <a:ext cx="3917880" cy="78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7" name=""/>
          <p:cNvSpPr/>
          <p:nvPr/>
        </p:nvSpPr>
        <p:spPr>
          <a:xfrm>
            <a:off x="914400" y="1447920"/>
            <a:ext cx="73245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</a:rPr>
              <a:t>归纳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旋转中心不变、改变旋转角与旋转角不变、改变旋转中心会产生不同的效果，所以可以经过旋转设计出美丽的图案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304200"/>
            <a:ext cx="20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自学检测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0"/>
            <a:ext cx="3132000" cy="1030320"/>
            <a:chOff x="0" y="0"/>
            <a:chExt cx="3132000" cy="1030320"/>
          </a:xfrm>
        </p:grpSpPr>
        <p:pic>
          <p:nvPicPr>
            <p:cNvPr id="80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13200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"/>
            <p:cNvSpPr/>
            <p:nvPr/>
          </p:nvSpPr>
          <p:spPr>
            <a:xfrm>
              <a:off x="611280" y="189000"/>
              <a:ext cx="2016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华文彩云"/>
                </a:rPr>
                <a:t>预习导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43800" y="152280"/>
            <a:ext cx="1371600" cy="1162080"/>
          </a:xfrm>
          <a:prstGeom prst="rect">
            <a:avLst/>
          </a:prstGeom>
          <a:ln w="0">
            <a:noFill/>
          </a:ln>
        </p:spPr>
      </p:pic>
      <p:grpSp>
        <p:nvGrpSpPr>
          <p:cNvPr id="83" name=""/>
          <p:cNvGrpSpPr/>
          <p:nvPr/>
        </p:nvGrpSpPr>
        <p:grpSpPr>
          <a:xfrm>
            <a:off x="1143000" y="1523880"/>
            <a:ext cx="7315200" cy="2737440"/>
            <a:chOff x="1143000" y="1523880"/>
            <a:chExt cx="7315200" cy="2737440"/>
          </a:xfrm>
        </p:grpSpPr>
        <p:grpSp>
          <p:nvGrpSpPr>
            <p:cNvPr id="84" name=""/>
            <p:cNvGrpSpPr/>
            <p:nvPr/>
          </p:nvGrpSpPr>
          <p:grpSpPr>
            <a:xfrm>
              <a:off x="1143000" y="1523880"/>
              <a:ext cx="7315200" cy="839880"/>
              <a:chOff x="1143000" y="1523880"/>
              <a:chExt cx="7315200" cy="839880"/>
            </a:xfrm>
          </p:grpSpPr>
          <p:sp>
            <p:nvSpPr>
              <p:cNvPr id="85" name=""/>
              <p:cNvSpPr/>
              <p:nvPr/>
            </p:nvSpPr>
            <p:spPr>
              <a:xfrm>
                <a:off x="1143000" y="1523880"/>
                <a:ext cx="7315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800" spc="-1" strike="noStrike">
                    <a:solidFill>
                      <a:srgbClr val="000000"/>
                    </a:solidFill>
                    <a:latin typeface="Arial"/>
                  </a:rPr>
                  <a:t>　　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如图所示是日本三菱汽车公司的标志，它可以看作是由一个菱形经过            次旋转，每次旋转             得到的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4038480" y="2362320"/>
                <a:ext cx="9144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391520" y="2286000"/>
                <a:ext cx="68580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" name=""/>
            <p:cNvGrpSpPr/>
            <p:nvPr/>
          </p:nvGrpSpPr>
          <p:grpSpPr>
            <a:xfrm>
              <a:off x="5476320" y="2895480"/>
              <a:ext cx="1463400" cy="1365840"/>
              <a:chOff x="5476320" y="2895480"/>
              <a:chExt cx="1463400" cy="1365840"/>
            </a:xfrm>
          </p:grpSpPr>
          <p:sp>
            <p:nvSpPr>
              <p:cNvPr id="89" name=""/>
              <p:cNvSpPr/>
              <p:nvPr/>
            </p:nvSpPr>
            <p:spPr>
              <a:xfrm>
                <a:off x="5955120" y="2895480"/>
                <a:ext cx="478080" cy="7459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7836800">
                <a:off x="6253560" y="3468600"/>
                <a:ext cx="518760" cy="6919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3252600">
                <a:off x="5649120" y="3502440"/>
                <a:ext cx="518760" cy="691920"/>
              </a:xfrm>
              <a:prstGeom prst="diamond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4267080" y="1981080"/>
            <a:ext cx="73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83320" y="19461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120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2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0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-80280" y="-194040"/>
            <a:ext cx="2747160" cy="2103840"/>
            <a:chOff x="-80280" y="-194040"/>
            <a:chExt cx="2747160" cy="2103840"/>
          </a:xfrm>
        </p:grpSpPr>
        <p:sp>
          <p:nvSpPr>
            <p:cNvPr id="95" name=""/>
            <p:cNvSpPr/>
            <p:nvPr/>
          </p:nvSpPr>
          <p:spPr>
            <a:xfrm rot="413400">
              <a:off x="19080" y="-47520"/>
              <a:ext cx="2548080" cy="18111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rot="20757000">
              <a:off x="255600" y="56196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3247920" y="83736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2286000"/>
            <a:ext cx="56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1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315200" y="1905120"/>
            <a:ext cx="43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685800" y="1905120"/>
            <a:ext cx="7696080" cy="2361960"/>
            <a:chOff x="685800" y="1905120"/>
            <a:chExt cx="7696080" cy="2361960"/>
          </a:xfrm>
        </p:grpSpPr>
        <p:grpSp>
          <p:nvGrpSpPr>
            <p:cNvPr id="101" name=""/>
            <p:cNvGrpSpPr/>
            <p:nvPr/>
          </p:nvGrpSpPr>
          <p:grpSpPr>
            <a:xfrm>
              <a:off x="685800" y="1905120"/>
              <a:ext cx="7696080" cy="763560"/>
              <a:chOff x="685800" y="1905120"/>
              <a:chExt cx="7696080" cy="763560"/>
            </a:xfrm>
          </p:grpSpPr>
          <p:sp>
            <p:nvSpPr>
              <p:cNvPr id="102" name=""/>
              <p:cNvSpPr/>
              <p:nvPr/>
            </p:nvSpPr>
            <p:spPr>
              <a:xfrm>
                <a:off x="685800" y="1905120"/>
                <a:ext cx="76960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1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如图所示，图①沿逆时针方向旋转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90°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可得到图      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图①按顺时针方向至少旋转           度可得图③</a:t>
                </a:r>
                <a:r>
                  <a:rPr b="0" lang="zh-CN" sz="2400" spc="-1" strike="noStrike">
                    <a:solidFill>
                      <a:srgbClr val="000000"/>
                    </a:solidFill>
                    <a:latin typeface="Arial"/>
                  </a:rPr>
                  <a:t>.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15200" y="2362320"/>
                <a:ext cx="38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267080" y="2668680"/>
                <a:ext cx="533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1905120" y="2819520"/>
              <a:ext cx="5403600" cy="14475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-80280" y="-194040"/>
            <a:ext cx="2747160" cy="2103840"/>
            <a:chOff x="-80280" y="-194040"/>
            <a:chExt cx="2747160" cy="2103840"/>
          </a:xfrm>
        </p:grpSpPr>
        <p:sp>
          <p:nvSpPr>
            <p:cNvPr id="107" name=""/>
            <p:cNvSpPr/>
            <p:nvPr/>
          </p:nvSpPr>
          <p:spPr>
            <a:xfrm rot="413400">
              <a:off x="19080" y="-47520"/>
              <a:ext cx="2548080" cy="1811160"/>
            </a:xfrm>
            <a:prstGeom prst="irregularSeal2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rot="20757000">
              <a:off x="255600" y="561960"/>
              <a:ext cx="1919160" cy="61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12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400" spc="-1" strike="noStrike">
                  <a:solidFill>
                    <a:srgbClr val="ff0000"/>
                  </a:solidFill>
                  <a:latin typeface="Arial"/>
                  <a:ea typeface="华文行楷"/>
                </a:rPr>
                <a:t>合作探究</a:t>
              </a:r>
              <a:endParaRPr b="0" lang="en-US" sz="3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3095640" y="457920"/>
            <a:ext cx="17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一、小组合作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1828800"/>
            <a:ext cx="8379000" cy="2590920"/>
            <a:chOff x="380880" y="1828800"/>
            <a:chExt cx="8379000" cy="2590920"/>
          </a:xfrm>
        </p:grpSpPr>
        <p:sp>
          <p:nvSpPr>
            <p:cNvPr id="111" name=""/>
            <p:cNvSpPr/>
            <p:nvPr/>
          </p:nvSpPr>
          <p:spPr>
            <a:xfrm>
              <a:off x="380880" y="1828800"/>
              <a:ext cx="8379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2.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如图所示，在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中，∠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BA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点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C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内的一点，且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将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B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绕点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旋转后与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CP′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重合，求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PP′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的长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" descr=""/>
            <p:cNvPicPr/>
            <p:nvPr/>
          </p:nvPicPr>
          <p:blipFill>
            <a:blip r:embed="rId1"/>
            <a:stretch/>
          </p:blipFill>
          <p:spPr>
            <a:xfrm>
              <a:off x="4730760" y="2819520"/>
              <a:ext cx="2351160" cy="1600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3" name=""/>
          <p:cNvGrpSpPr/>
          <p:nvPr/>
        </p:nvGrpSpPr>
        <p:grpSpPr>
          <a:xfrm>
            <a:off x="457200" y="3124080"/>
            <a:ext cx="4495680" cy="2235240"/>
            <a:chOff x="457200" y="3124080"/>
            <a:chExt cx="4495680" cy="2235240"/>
          </a:xfrm>
        </p:grpSpPr>
        <p:sp>
          <p:nvSpPr>
            <p:cNvPr id="114" name=""/>
            <p:cNvSpPr/>
            <p:nvPr/>
          </p:nvSpPr>
          <p:spPr>
            <a:xfrm>
              <a:off x="457200" y="3124080"/>
              <a:ext cx="4495680" cy="192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</a:rPr>
                <a:t>解：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依题意，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绕点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旋转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90°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时得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P′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P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，则△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APP′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是等腰直角三角形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所以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PP′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    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    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     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＝                 ＝     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15" name=""/>
            <p:cNvGraphicFramePr/>
            <p:nvPr/>
          </p:nvGraphicFramePr>
          <p:xfrm>
            <a:off x="2133720" y="4191120"/>
            <a:ext cx="1731960" cy="53316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1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2133720" y="4191120"/>
                      <a:ext cx="1731960" cy="533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7" name=""/>
            <p:cNvGraphicFramePr/>
            <p:nvPr/>
          </p:nvGraphicFramePr>
          <p:xfrm>
            <a:off x="2209680" y="4840200"/>
            <a:ext cx="1143000" cy="51912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18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2209680" y="4840200"/>
                      <a:ext cx="1143000" cy="519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9" name=""/>
            <p:cNvGraphicFramePr/>
            <p:nvPr/>
          </p:nvGraphicFramePr>
          <p:xfrm>
            <a:off x="3886200" y="4876920"/>
            <a:ext cx="657360" cy="4651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20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3886200" y="4876920"/>
                      <a:ext cx="657360" cy="465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6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1-02T05:30:5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